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B24E-1819-474E-B2E8-E24508ABA5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ar not an occasion for individual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993-3ADE-45C1-B677-E4B8442E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614-6DA0-4441-84CF-9B07C15E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7F6-A05E-4676-92B9-0F6C3752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761-F30F-445B-B6D5-B7A1AB89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59C-325B-4478-846C-3FEF626C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736-4A9C-4412-9A65-7FB60868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BE1-AB9D-43DC-8B8D-F5A10EFD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255-49DE-4925-BA0F-BEDB642E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1C0-364A-4E18-808C-E65D211E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251-CAFB-4C02-8FF3-BD90BAC5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1E8-33F6-464F-9968-E4F5BA72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9FC-BFAF-4DA5-B4BF-D3036422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A157-7C54-4DD4-874A-F4D23549F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gel and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r is not to b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justifie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with reference to its general salutary effects in any particular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justification of any particular war will always have to do with the specific “welfare” of a state, but not with the abstract preservation of a state’s 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storic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is the World’s Court of Judgment: the rise and fall of states in history reveals the judgment of spi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very age, certain states rise to be the representatives of dominant cultural forms that embody certain moments of the histor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gel identifies “Oriental” states, Greece, Rome, and the German states as important stages in the development towards ever more differentiated 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m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egel predicts that modern warfare will be more “rational” because more abstract and less individu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“individuality” or “sovereignty” of the state is in tension with the idea that war must, and can, be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idea of a historical unfolding of the spirit leading to the ethical state seems to lead to perpetual peace anyway (“The End of Histor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x “inverts” He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states do not embody any special values; they represent dominant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unfolds in a rational process towards greater freedom and rationality, but through a conflict of classes over resources rather than a conflict of ideas over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dividual and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ll hitherto existing forms of society (including Hegel’s rational state), the individual is alienated from his social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n communist society can the individual be reconciled to the community without losing his or her individ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x and Rouss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forms of society start as undifferentiated unities (e.g., no division of lab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vision of labor introduces conflict and 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rationality of history ensures that such conflict will eventually be he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form of society is characterized by i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de of prod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way in which labor is typically divided so as to produce and reproduce huma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ode of production involves some characteristic and deep-seat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fli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slaves and masters in slave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lord and peasant in feudal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capital and labor in capitalist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t each new form of society represents an advance in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udal societies are freer, in important ways, than slave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ist societies are freer, in important ways, than feudal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each form of society prepares the way for the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eudal society paves the way for the development of capit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pitalism paves the way for the development of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lec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ifferentiated unity (e.g., the family, early civiliz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unity (e.g., civil society, later civiliz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d unity (e.g., the state, contemporary German civi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sm is characterized by the conflict between capital and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 is alienated from its products and exploited by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beings fail to control their joint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t capitalism is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v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ver other forms of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ive forces unleashed by capitalism increase the possibilities for human self-realization, even if they restrict them to the capit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al freedom of choice afforded to labor is a real increase in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 represents the socialization of the means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eals the alienation of labor from its products: there is no more conflict between capital and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epresents the conscious control of social life by its produ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epresents an ideal of self-re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or may not be brought about by violent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ism an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is ultimately caused by the same conflicts that characterize a mode of production, and can only be eliminated by their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sm leads to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 also leads to the conditions for the elimination of war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ob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pitalism is the precondition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x and perpetual pe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Kant, Marx subscribes to a version of the perpetual peace 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Hegel, Marx believes one can say that history is essentially 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 Hegel, Marx believes one can predict the future: communism, and hence perpetual peace, is inev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ster and the s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ter wants to force recognition from the s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only way the recognition is worth anything is if the slave is free to gi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uine recognition always requires the freedom of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 and Sovereig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are sovereign insofar as they can receive recognition, which is only given by oth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sovereignty of states also reflects their status as the embodiment of real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gel’s critique of K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r is part of the rational process of history and a possibility that is inherent in sovereig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“purpose” of war is not to lead to perpetual peace, but to preserve and enhance a particular manifestation of spirit, a cultural identity in ration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gel’s Critique of K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ithout th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ossibility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f war (of existential conflict), the state would disintegrate into 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federation of states could not eliminate this possibility without also eliminating sovereig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r and the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r enhances shared values – the unity of th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ifts people out of their concern with material possessions characteristic of civil society: promotes civic virtue (as “selflessnes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nhances the unity of the state which is likely to fragment by prolonged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imits o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ar should be limited by the fact of mutual recognition: it ought to come to an end in a way that preserves the possibility of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stility in modern war should be abstract, not individu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ar is a conflict between states, and hence militaries as the class of people who have the function of warmaking in the state and embody its 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Yet war can always devolve into a war of survival; this is necessary for war to serve its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treatment of soldiers, etc. depends merely on customs, but these customs embody valid conceptions of right in a historical ti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 modern times war is limited in the European context through common custom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21:06:19Z</dcterms:created>
  <dc:creator>Full Name</dc:creator>
  <dc:description/>
  <dc:language>en-US</dc:language>
  <cp:lastModifiedBy>Xavier Marquez</cp:lastModifiedBy>
  <dcterms:modified xsi:type="dcterms:W3CDTF">2008-10-02T18:39:41Z</dcterms:modified>
  <cp:revision>2</cp:revision>
  <dc:subject/>
  <dc:title>Hegel and Marx</dc:title>
</cp:coreProperties>
</file>